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2BA4-7CE1-4D36-8411-81A4B5B2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5696-45AC-4B93-9712-D82665A0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E5EA-6EED-4CEE-84FD-58C8FFDCA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F72-A235-438E-B7DE-EA6F87DF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40D-5BA1-4CA4-851B-9D0CDD16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779-1565-4E92-948F-199A0AC0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52D-FF0E-4DE5-B828-F3D30F52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7C99-83B8-4F98-8E3D-1910F548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7376-7594-403E-B006-98F0F022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E076-085C-4812-A510-9D86F11C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B084-1E2E-4868-8EFC-4C63708F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07D9-F601-4D78-9974-C01E84CD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53E8-0876-4659-8077-59DE96D0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2340-3944-4CDD-A8EC-FA295A41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1AE-44C8-4712-8ABF-F8610B27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A9D9-E6D1-48FC-ADF4-CEEA4DCA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F8A4-C8F2-4C99-8BB3-D3A2D37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0841-A812-4E46-828A-CCD33063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7B84-2D2A-42CB-900D-99CF2AE0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4A39-D13C-490D-8F69-6A111633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B726-4F5A-4C36-B6D1-35E93330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AD53-405F-469A-98CC-8D509A32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B9DC-48FA-43EF-B410-C68B0F5D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66467-2EF5-40C5-A4C1-844425A2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7B1E2-07A2-42C5-9AC1-171F1186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B3B-2436-4B2A-B9E5-A595CFAF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32D6-7FC6-4F62-ADA9-F307B19C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5FE7-C0EE-432D-9E66-CF3D5C81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E6B1-FE34-47AB-ACEA-6E1B85A0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088C-11ED-4BC3-A207-896F3F68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FB35-2F4C-4F96-ADC2-FC853D27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1064-4A33-4AF2-A113-3EF2CFBC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E1C5-7D42-4732-957C-95B5887C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53365-C4C5-4A36-8C38-F9582F65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0CE4D-D5EA-4671-827A-0FEE27D2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4897C-6440-4990-BE2C-E25EC7A0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949-698D-45CF-9586-6EE72C49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1E4F-3AC2-473F-99E1-F8B3B63B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1718A-F348-4840-BE06-C39AD212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D360A-F50A-4D5D-8CE9-08C8C59C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B47A-6CB7-4293-AA21-8EFD200C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28FB4-A40F-4CB7-9B00-985CCA29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0A07-1204-4B68-A0DE-C65E926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A7B2E-4EE3-424B-88C5-4DF6A3C0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C9E87-FAD0-4867-9C1B-FFBAE6C4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EB231-B13A-476E-B31A-3FEDE9B8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0D72A-5AA8-4C51-ADBE-8F4280B6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D37-C960-48B0-A1F1-09D8E09E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C245-3FDC-4B32-ADB9-1EA3530B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27AF1-0D19-4718-AE21-87B02B59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FC9FB-7F38-405A-A4F1-038A3BF2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07CFC-AF68-4235-954F-81D46D06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920EC-4160-473B-8238-28DF6EC3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13C3C-15BB-4065-8E4C-8BAB09E0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1720-5EED-4DB7-880F-06CFC15F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18F37-82F0-4607-9B8B-421EAA2C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5764D-E391-481D-9518-F5CD6563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1302E-4673-4111-A9E1-1A1A87FD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C9E-67C6-4812-9457-AC61EB78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2DBD3-D437-4E5C-A4C3-0DA8387C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4234E-C672-4E63-AC54-15EC6584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C1127-5CD5-40FA-858B-174AFDC2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5F6AB-16A3-4C97-8CCD-A9D8B0DF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2B1DE-FE0C-4F87-853E-90C9003B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CA5A9-2B0F-453A-B2FB-D0BBBA0F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2C607-A5E4-45B7-B196-A6C5C761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36A58-CEEB-46AB-87BE-6A9A901B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35224-F0C3-4165-8D3F-7EA60626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9F875-BFAC-49E1-8EFC-1A048E0C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B11-85BD-48D8-893C-9C3D8CAD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D5802-5F7D-485B-AE5F-71C49DD5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BD1E3-D7E4-499C-BE02-08558502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D1CF2-584C-4262-A8B2-82BDE5F9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434DE-4BBD-4DE8-8604-2D015204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660C5-37D9-4E27-90F7-99A3DE7A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D518-2F0B-4C5F-9274-7D8D62AF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842EF-96E2-4E7E-9EC0-1FBA1015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D33CC-A5BB-4376-9FF3-10BE6E54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A49A6-366E-43A2-A38C-EF773CCD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ECA69-73BA-4DB2-B394-A7EC0E59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1C1-4B0B-4685-A4CA-98C6C61D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AE708-7963-4C44-A5B8-DD836529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C8421-6F28-46AE-8C5F-B89F76C6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1761F-23FF-4D10-A5A4-C3D08BED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7B041-F62C-414E-B195-BD49216E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FB691-ED33-422D-8969-97A1F727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E59D3-8629-4148-8CCF-16FF7EBD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F2EA4-79A2-43A4-AE8A-914BF139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0BEEC-E79E-4A99-8ECB-C1752387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A2121-79F7-470B-B578-8C7BA984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C799D-CE16-4404-BA46-A5E27045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6C5-11A6-491A-B00F-6B861EFC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DFDFC-2558-4784-8572-C47E5942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3A305-CFC6-475D-B0CA-CD58AA6E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EBC50-1B13-43AF-B0EB-96ADBE5F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B78B3-3D5B-49BE-90F6-F2A72080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378F4-C065-4E97-9E5F-D9BDAF2F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97F7D-F929-443E-BF91-737E5CB8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E1FD3-B0AE-44EF-8A65-9B2FDBDF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FBEC-3D79-471C-8020-19EDE03E0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BB27-48B0-431D-B155-50B5738572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68B2-E21F-4900-B8BC-290AA92372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5B33-F546-46B4-9417-1545365763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EF09-0B60-4E1C-A1C0-D49CEFECAB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100F-9694-46C9-8874-0663838A7F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4958-7BD8-451E-A7F7-4EB45D01C3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835A-AF9C-41CC-A6F8-A9777749AC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0" y="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da 4-6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No Homewor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0" y="1828800"/>
            <a:ext cx="9144000" cy="162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4-16-09  Use your Timeline on the “Jeopardy: Middle Ages” han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id Rome fa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vent help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ark Age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2593080" y="22017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.D. 4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262480" y="2487600"/>
            <a:ext cx="38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usades; it helped in opening up trade and the exchange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The Siege of Antioch, from a medieval miniature painting, during the First Crusade."/>
          <p:cNvPicPr/>
          <p:nvPr/>
        </p:nvPicPr>
        <p:blipFill>
          <a:blip r:embed="rId1"/>
          <a:stretch/>
        </p:blipFill>
        <p:spPr>
          <a:xfrm>
            <a:off x="0" y="3222720"/>
            <a:ext cx="2971800" cy="363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8" descr="The Middle Ages:  What was it &#13;&#10;really like to live in the Middle Ages?"/>
          <p:cNvPicPr/>
          <p:nvPr/>
        </p:nvPicPr>
        <p:blipFill>
          <a:blip r:embed="rId2"/>
          <a:srcRect l="14548" t="0" r="15634" b="27279"/>
          <a:stretch/>
        </p:blipFill>
        <p:spPr>
          <a:xfrm>
            <a:off x="2666880" y="304920"/>
            <a:ext cx="4191120" cy="1447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Image:Plague victims blessed by priest.jpg"/>
          <p:cNvPicPr/>
          <p:nvPr/>
        </p:nvPicPr>
        <p:blipFill>
          <a:blip r:embed="rId3"/>
          <a:srcRect l="12684" t="12602" r="11197" b="12602"/>
          <a:stretch/>
        </p:blipFill>
        <p:spPr>
          <a:xfrm>
            <a:off x="3048120" y="3200400"/>
            <a:ext cx="353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crusades"/>
          <p:cNvPicPr/>
          <p:nvPr/>
        </p:nvPicPr>
        <p:blipFill>
          <a:blip r:embed="rId1"/>
          <a:stretch/>
        </p:blipFill>
        <p:spPr>
          <a:xfrm>
            <a:off x="2362320" y="838080"/>
            <a:ext cx="4608360" cy="4461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rusa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57200" y="5029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e4df"/>
                </a:solidFill>
                <a:latin typeface="Tahoma"/>
              </a:rPr>
              <a:t>Around A.D. 1000, Muslims in Jerusalem no longer welcomed Christians visitors. The Christians went on several journeys to try to capture Jerusalem. These journeys were called the Crusad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Christians made long difficult journeys to Jerusalem during the Crusades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7" name="Picture 6" descr="map_of_Crusades2"/>
          <p:cNvPicPr/>
          <p:nvPr/>
        </p:nvPicPr>
        <p:blipFill>
          <a:blip r:embed="rId1"/>
          <a:stretch/>
        </p:blipFill>
        <p:spPr>
          <a:xfrm>
            <a:off x="1525680" y="1600200"/>
            <a:ext cx="609264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9" name="Content Placeholder 3" descr="Pictu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te Middle A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200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Black Death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evastating worldwide pandemic first struck Europe in the mid 1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killed about a third of Europe’s population, an estimated 34 million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Picture 4" descr="stinnocents1"/>
          <p:cNvPicPr/>
          <p:nvPr/>
        </p:nvPicPr>
        <p:blipFill>
          <a:blip r:embed="rId1"/>
          <a:stretch/>
        </p:blipFill>
        <p:spPr>
          <a:xfrm>
            <a:off x="2971800" y="1689120"/>
            <a:ext cx="60199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59436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Bubonic Plag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907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ed “black death” because a sufferers' skin would blacken due to hemorrhages under the s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ad by fleas and r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inful lymph node swellings called buboes that ooze pus and blo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age to the skin and underlying tissue until they were covered in dark blot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victims died within four to seven days after infe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d massive depopulation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 in social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ened influence of Chu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ated in Asia but was blamed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ws and le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4" descr="rhooke_flea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1935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plague_art"/>
          <p:cNvPicPr/>
          <p:nvPr/>
        </p:nvPicPr>
        <p:blipFill>
          <a:blip r:embed="rId2"/>
          <a:stretch/>
        </p:blipFill>
        <p:spPr>
          <a:xfrm>
            <a:off x="5715000" y="4724280"/>
            <a:ext cx="3200400" cy="1941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bubo"/>
          <p:cNvPicPr/>
          <p:nvPr/>
        </p:nvPicPr>
        <p:blipFill>
          <a:blip r:embed="rId3"/>
          <a:stretch/>
        </p:blipFill>
        <p:spPr>
          <a:xfrm>
            <a:off x="6324480" y="2590920"/>
            <a:ext cx="25909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dance_of_death"/>
          <p:cNvPicPr/>
          <p:nvPr/>
        </p:nvPicPr>
        <p:blipFill>
          <a:blip r:embed="rId1"/>
          <a:stretch/>
        </p:blipFill>
        <p:spPr>
          <a:xfrm>
            <a:off x="0" y="1198440"/>
            <a:ext cx="929628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plaguemap"/>
          <p:cNvPicPr/>
          <p:nvPr/>
        </p:nvPicPr>
        <p:blipFill>
          <a:blip r:embed="rId1"/>
          <a:stretch/>
        </p:blipFill>
        <p:spPr>
          <a:xfrm>
            <a:off x="1143000" y="762120"/>
            <a:ext cx="7031160" cy="5397480"/>
          </a:xfrm>
          <a:prstGeom prst="rect">
            <a:avLst/>
          </a:prstGeom>
          <a:ln w="0">
            <a:noFill/>
          </a:ln>
        </p:spPr>
      </p:pic>
      <p:sp>
        <p:nvSpPr>
          <p:cNvPr id="380" name="Action Button: Information 2"/>
          <p:cNvSpPr/>
          <p:nvPr/>
        </p:nvSpPr>
        <p:spPr>
          <a:xfrm>
            <a:off x="7543800" y="548640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10800" y="418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375">
                <a:moveTo>
                  <a:pt x="10800" y="455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375">
                <a:moveTo>
                  <a:pt x="8224" y="8611"/>
                </a:moveTo>
                <a:lnTo>
                  <a:pt x="12088" y="8611"/>
                </a:lnTo>
                <a:lnTo>
                  <a:pt x="12088" y="15609"/>
                </a:lnTo>
                <a:lnTo>
                  <a:pt x="13376" y="15609"/>
                </a:lnTo>
                <a:lnTo>
                  <a:pt x="13376" y="16531"/>
                </a:lnTo>
                <a:lnTo>
                  <a:pt x="8224" y="16531"/>
                </a:lnTo>
                <a:lnTo>
                  <a:pt x="8224" y="15609"/>
                </a:lnTo>
                <a:lnTo>
                  <a:pt x="9512" y="15609"/>
                </a:lnTo>
                <a:lnTo>
                  <a:pt x="9512" y="9516"/>
                </a:lnTo>
                <a:lnTo>
                  <a:pt x="8224" y="951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flea"/>
          <p:cNvPicPr/>
          <p:nvPr/>
        </p:nvPicPr>
        <p:blipFill>
          <a:blip r:embed="rId2"/>
          <a:stretch/>
        </p:blipFill>
        <p:spPr>
          <a:xfrm>
            <a:off x="1143000" y="5486400"/>
            <a:ext cx="8636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0:52:30Z</dcterms:created>
  <dc:creator>Selena Ramsey</dc:creator>
  <dc:description/>
  <dc:language>en-US</dc:language>
  <cp:lastModifiedBy>poweruser</cp:lastModifiedBy>
  <dcterms:modified xsi:type="dcterms:W3CDTF">2011-04-05T23:14:27Z</dcterms:modified>
  <cp:revision>39</cp:revision>
  <dc:subject/>
  <dc:title>Slide 1</dc:title>
</cp:coreProperties>
</file>